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3DD-2E8A-41DA-A193-497CC111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761-4555-4BC8-92DA-9D2A1C6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E7A-DE87-47F2-BFBD-1DDCA92A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46B-BB0A-450C-A2A7-F80E8D0A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1EE-5619-431F-91FC-8D9697EB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98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8640" y="190656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98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8640" y="4161240"/>
            <a:ext cx="25128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6FD-7416-41EE-87D1-A4D67170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7DC-8E27-45FF-B639-1E5D091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E02-2B5F-424D-8521-65B41166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3280"/>
            <a:ext cx="7804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4FB-26DA-45AF-9062-97A6DB16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7070-E926-4065-824D-15A4D5A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16124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383-E665-47FE-A797-8437CF0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06560"/>
            <a:ext cx="3808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240"/>
            <a:ext cx="78044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6697-2398-4408-85F6-6A3CBFA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4336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46560" y="6246360"/>
            <a:ext cx="244296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245280" y="6246360"/>
            <a:ext cx="243360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7D76-8057-4C66-8CFC-159EA324F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-206640"/>
            <a:ext cx="8221680" cy="20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90480"/>
            <a:ext cx="8221680" cy="79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buClr>
                <a:srgbClr val="000000"/>
              </a:buClr>
              <a:buSzPct val="25000"/>
              <a:buFont typeface="Arial"/>
              <a:buChar char="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buClr>
                <a:srgbClr val="000000"/>
              </a:buClr>
              <a:buSzPct val="25000"/>
              <a:buFont typeface="Arial"/>
              <a:buChar char="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buClr>
                <a:srgbClr val="000000"/>
              </a:buClr>
              <a:buSzPct val="25000"/>
              <a:buFont typeface="Arial"/>
              <a:buChar char="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buClr>
                <a:srgbClr val="000000"/>
              </a:buClr>
              <a:buSzPct val="25000"/>
              <a:buFont typeface="Arial"/>
              <a:buChar char="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6" y="0"/>
                </a:moveTo>
                <a:arcTo wR="206" hR="206" stAng="16200000" swAng="-5400000"/>
                <a:lnTo>
                  <a:pt x="0" y="108545"/>
                </a:lnTo>
                <a:arcTo wR="206" hR="206" stAng="10800000" swAng="-5400000"/>
                <a:lnTo>
                  <a:pt x="21394" y="108751"/>
                </a:lnTo>
                <a:arcTo wR="206" hR="206" stAng="5400000" swAng="-5400000"/>
                <a:lnTo>
                  <a:pt x="21600" y="206"/>
                </a:lnTo>
                <a:arcTo wR="206" hR="20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6" y="0"/>
                </a:moveTo>
                <a:arcTo wR="206" hR="206" stAng="16200000" swAng="-5400000"/>
                <a:lnTo>
                  <a:pt x="0" y="108545"/>
                </a:lnTo>
                <a:arcTo wR="206" hR="206" stAng="10800000" swAng="-5400000"/>
                <a:lnTo>
                  <a:pt x="21394" y="108751"/>
                </a:lnTo>
                <a:arcTo wR="206" hR="206" stAng="5400000" swAng="-5400000"/>
                <a:lnTo>
                  <a:pt x="21600" y="206"/>
                </a:lnTo>
                <a:arcTo wR="206" hR="20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6" y="0"/>
                </a:moveTo>
                <a:arcTo wR="206" hR="206" stAng="16200000" swAng="-5400000"/>
                <a:lnTo>
                  <a:pt x="0" y="108545"/>
                </a:lnTo>
                <a:arcTo wR="206" hR="206" stAng="10800000" swAng="-5400000"/>
                <a:lnTo>
                  <a:pt x="21394" y="108751"/>
                </a:lnTo>
                <a:arcTo wR="206" hR="206" stAng="5400000" swAng="-5400000"/>
                <a:lnTo>
                  <a:pt x="21600" y="206"/>
                </a:lnTo>
                <a:arcTo wR="206" hR="20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3000" spc="-1" strike="sngStrike" u="sng">
                <a:solidFill>
                  <a:srgbClr val="babed6"/>
                </a:solidFill>
                <a:uFillTx/>
                <a:latin typeface="Georgia"/>
              </a:rPr>
              <a:t>«</a:t>
            </a:r>
            <a:r>
              <a:rPr b="1" i="1" lang="en-US" sz="1800" spc="-1" strike="sngStrike" u="sng">
                <a:solidFill>
                  <a:srgbClr val="babed6"/>
                </a:solidFill>
                <a:uFillTx/>
                <a:latin typeface="Georgia"/>
              </a:rPr>
              <a:t>Основы религиозных культур и светской этики»</a:t>
            </a:r>
            <a:br>
              <a:rPr sz="1800"/>
            </a:br>
            <a:r>
              <a:rPr b="1" i="1" lang="en-US" sz="1800" spc="-1" strike="sngStrike" u="sng">
                <a:solidFill>
                  <a:srgbClr val="babed6"/>
                </a:solidFill>
                <a:uFillTx/>
                <a:latin typeface="Georgia"/>
              </a:rPr>
              <a:t>Модуль: «Основы православной культуры»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159084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indent="44136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Тема урока «Христианская семья и её ценности»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44136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Урок № 29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44136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Класс 4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" y="4006800"/>
            <a:ext cx="822960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6760" indent="-263520" algn="ctr">
              <a:lnSpc>
                <a:spcPct val="100000"/>
              </a:lnSpc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</a:tabLst>
            </a:pPr>
            <a:r>
              <a:rPr b="0" lang="en-US" sz="2700" spc="-1" strike="sngStrike" u="sng">
                <a:solidFill>
                  <a:srgbClr val="babed6"/>
                </a:solidFill>
                <a:uFillTx/>
                <a:latin typeface="Georgia"/>
              </a:rPr>
              <a:t>Составила:  учитель МОУ НОШ № 2 г.Кыштыма 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66760" indent="-263520" algn="ctr">
              <a:lnSpc>
                <a:spcPct val="100000"/>
              </a:lnSpc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</a:tabLst>
            </a:pPr>
            <a:r>
              <a:rPr b="0" lang="en-US" sz="2700" spc="-1" strike="sngStrike" u="sng">
                <a:solidFill>
                  <a:srgbClr val="babed6"/>
                </a:solidFill>
                <a:uFillTx/>
                <a:latin typeface="Georgia"/>
              </a:rPr>
              <a:t>Терентьева М.В.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66760" indent="-263520" algn="ctr">
              <a:lnSpc>
                <a:spcPct val="100000"/>
              </a:lnSpc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</a:tabLst>
            </a:pPr>
            <a:r>
              <a:rPr b="0" lang="en-US" sz="2700" spc="-1" strike="sngStrike" u="sng">
                <a:solidFill>
                  <a:srgbClr val="babed6"/>
                </a:solidFill>
                <a:uFillTx/>
                <a:latin typeface="Georgia"/>
              </a:rPr>
              <a:t> </a:t>
            </a:r>
            <a:r>
              <a:rPr b="0" lang="en-US" sz="2700" spc="-1" strike="sngStrike" u="sng">
                <a:solidFill>
                  <a:srgbClr val="babed6"/>
                </a:solidFill>
                <a:uFillTx/>
                <a:latin typeface="Georgia"/>
              </a:rPr>
              <a:t>2020-2021 уч.год</a:t>
            </a:r>
            <a:endParaRPr b="1" i="1" lang="en-US" sz="27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>
            <a:lum contrast="-2000"/>
          </a:blip>
          <a:srcRect l="0" t="4190" r="0" b="0"/>
          <a:stretch/>
        </p:blipFill>
        <p:spPr>
          <a:xfrm>
            <a:off x="0" y="54000"/>
            <a:ext cx="6912000" cy="680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6696000" y="61920"/>
            <a:ext cx="2408400" cy="1809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5256360" y="4248000"/>
            <a:ext cx="382896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9620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3600" spc="-1" strike="sngStrike" u="sng">
                <a:solidFill>
                  <a:srgbClr val="babed6"/>
                </a:solidFill>
                <a:uFillTx/>
                <a:latin typeface="Arial"/>
              </a:rPr>
              <a:t>Святые Пётр и Феврония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3720" y="1655640"/>
            <a:ext cx="4040280" cy="518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925880" y="1625760"/>
            <a:ext cx="407376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849920" y="71280"/>
            <a:ext cx="4294080" cy="288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71280"/>
            <a:ext cx="3370320" cy="3341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0" y="3670200"/>
            <a:ext cx="4032360" cy="318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4"/>
          <a:stretch/>
        </p:blipFill>
        <p:spPr>
          <a:xfrm>
            <a:off x="3989520" y="3887640"/>
            <a:ext cx="5154480" cy="290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5"/>
          <a:stretch/>
        </p:blipFill>
        <p:spPr>
          <a:xfrm>
            <a:off x="3024360" y="2728800"/>
            <a:ext cx="217296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287280" y="5597640"/>
            <a:ext cx="8610480" cy="6998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любовь 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287280" y="4896000"/>
            <a:ext cx="8610480" cy="701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терпение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7280" y="3495600"/>
            <a:ext cx="8610480" cy="70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воздержание 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87280" y="4195800"/>
            <a:ext cx="8610480" cy="70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честность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87280" y="2795760"/>
            <a:ext cx="8610480" cy="6998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смирение</a:t>
            </a:r>
            <a:r>
              <a:rPr b="0" lang="en-US" sz="2400" spc="-1" strike="sngStrike">
                <a:solidFill>
                  <a:srgbClr val="bbe0e3"/>
                </a:solidFill>
                <a:latin typeface="Arial"/>
              </a:rPr>
              <a:t>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87280" y="2095560"/>
            <a:ext cx="8610480" cy="70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трудолюбие 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87280" y="1393920"/>
            <a:ext cx="8610480" cy="7016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400" spc="-1" strike="sngStrike">
                <a:solidFill>
                  <a:srgbClr val="bbe0e3"/>
                </a:solidFill>
                <a:latin typeface="Arial"/>
              </a:rPr>
              <a:t>радость 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03280" y="144360"/>
            <a:ext cx="8393040" cy="1249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>
                <a:solidFill>
                  <a:srgbClr val="bbe0e3"/>
                </a:solidFill>
                <a:latin typeface="Arial"/>
              </a:rPr>
              <a:t>СЕМЬЯ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34920" y="417672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800" spc="-1" strike="sngStrike" u="sng">
                <a:solidFill>
                  <a:srgbClr val="babed6"/>
                </a:solidFill>
                <a:uFillTx/>
                <a:latin typeface="Times New Roman"/>
              </a:rPr>
              <a:t>Синквейн  СЕМЬЯ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539640" y="1700280"/>
            <a:ext cx="80107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3000" spc="-1" strike="sngStrike">
                <a:solidFill>
                  <a:srgbClr val="babed6"/>
                </a:solidFill>
                <a:latin typeface="Times New Roman"/>
              </a:rPr>
              <a:t>1 строка – одно существительное, выражающее главную тему cинквейна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2637000"/>
            <a:ext cx="8010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3000" spc="-1" strike="sngStrike">
                <a:solidFill>
                  <a:srgbClr val="babed6"/>
                </a:solidFill>
                <a:latin typeface="Times New Roman"/>
              </a:rPr>
              <a:t>2 строка – два прилагательных, выражающих главную мысль.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39640" y="3500280"/>
            <a:ext cx="8010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3000" spc="-1" strike="sngStrike">
                <a:solidFill>
                  <a:srgbClr val="babed6"/>
                </a:solidFill>
                <a:latin typeface="Times New Roman"/>
              </a:rPr>
              <a:t>3 строка – три глагола, описывающие действия в рамках темы.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11280" y="4508640"/>
            <a:ext cx="81198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3000" spc="-1" strike="sngStrike">
                <a:solidFill>
                  <a:srgbClr val="babed6"/>
                </a:solidFill>
                <a:latin typeface="Times New Roman"/>
              </a:rPr>
              <a:t>4 строка – фраза, несущая определенный смысл.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11280" y="5423040"/>
            <a:ext cx="83232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3000" spc="-1" strike="sngStrike">
                <a:solidFill>
                  <a:srgbClr val="babed6"/>
                </a:solidFill>
                <a:latin typeface="Times New Roman"/>
              </a:rPr>
              <a:t>5 строка – заключение в форме существительного (ассоциация с первым словом).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87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7200" spc="-1" strike="sngStrike" u="sng">
                <a:solidFill>
                  <a:srgbClr val="babed6"/>
                </a:solidFill>
                <a:uFillTx/>
                <a:latin typeface="Times New Roman"/>
              </a:rPr>
              <a:t>Спасибо!</a:t>
            </a:r>
            <a:endParaRPr b="1" i="1" lang="en-US" sz="7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936720" y="1306440"/>
            <a:ext cx="7750080" cy="55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400" spc="-1" strike="sngStrike" u="sng">
                <a:solidFill>
                  <a:srgbClr val="babed6"/>
                </a:solidFill>
                <a:uFillTx/>
                <a:latin typeface="Arial"/>
              </a:rPr>
              <a:t>Семья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457200" y="159084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15840" y="3228840"/>
            <a:ext cx="158436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500200" y="2952720"/>
            <a:ext cx="22716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2727360" y="2952720"/>
            <a:ext cx="22536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659040" y="3228840"/>
            <a:ext cx="227160" cy="18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5"/>
          <a:stretch/>
        </p:blipFill>
        <p:spPr>
          <a:xfrm>
            <a:off x="4079880" y="3228840"/>
            <a:ext cx="225360" cy="180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6"/>
          <a:stretch/>
        </p:blipFill>
        <p:spPr>
          <a:xfrm>
            <a:off x="4448160" y="3228840"/>
            <a:ext cx="1584360" cy="180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7"/>
          <a:stretch/>
        </p:blipFill>
        <p:spPr>
          <a:xfrm>
            <a:off x="6369120" y="3228840"/>
            <a:ext cx="181116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800" spc="-1" strike="sngStrike" u="sng">
                <a:solidFill>
                  <a:srgbClr val="babed6"/>
                </a:solidFill>
                <a:uFillTx/>
                <a:latin typeface="Arial"/>
              </a:rPr>
              <a:t>Семья 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457200" y="2162160"/>
            <a:ext cx="39639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indent="44136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 </a:t>
            </a: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«Группа живущих вместе близких родственников.» («Толковый словарь русского языка» С.И.Ожигов)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676760" y="2087640"/>
            <a:ext cx="39639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indent="44136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 </a:t>
            </a:r>
            <a:r>
              <a:rPr b="0" lang="en-US" sz="2800" spc="-1" strike="sngStrike" u="sng">
                <a:solidFill>
                  <a:srgbClr val="babed6"/>
                </a:solidFill>
                <a:uFillTx/>
                <a:latin typeface="Arial"/>
              </a:rPr>
              <a:t>Группа людей, состоящая из родителей, детей, внуков и ближних родственников, живущих вместе.(Д.Н. Ушаков)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400" spc="-1" strike="sngStrike" u="sng">
                <a:solidFill>
                  <a:srgbClr val="babed6"/>
                </a:solidFill>
                <a:uFillTx/>
                <a:latin typeface="Arial"/>
              </a:rPr>
              <a:t>Христианская семья и ее ценности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47640" y="2232000"/>
            <a:ext cx="8062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3200" spc="-1" strike="sngStrike" u="sng">
                <a:solidFill>
                  <a:srgbClr val="babed6"/>
                </a:solidFill>
                <a:uFillTx/>
                <a:latin typeface="Arial"/>
              </a:rPr>
              <a:t>Какие ценности положены в основу православной семьи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3200" spc="-1" strike="sngStrike" u="sng">
                <a:solidFill>
                  <a:srgbClr val="babed6"/>
                </a:solidFill>
                <a:uFillTx/>
                <a:latin typeface="Arial"/>
              </a:rPr>
              <a:t>Что главное в семье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3200" spc="-1" strike="sngStrike" u="sng">
                <a:solidFill>
                  <a:srgbClr val="babed6"/>
                </a:solidFill>
                <a:uFillTx/>
                <a:latin typeface="Arial"/>
              </a:rPr>
              <a:t>Какие примеры супружеской святости есть в русской культуре.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009880" y="2825640"/>
            <a:ext cx="5022720" cy="3632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009880" y="1004760"/>
            <a:ext cx="5022720" cy="1820880"/>
          </a:xfrm>
          <a:prstGeom prst="triangle">
            <a:avLst>
              <a:gd name="adj" fmla="val 479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en-US" sz="4800" spc="-1" strike="sngStrike" u="sng">
                <a:solidFill>
                  <a:srgbClr val="bbe0e3"/>
                </a:solidFill>
                <a:uFillTx/>
                <a:latin typeface="Arial"/>
              </a:rPr>
              <a:t>Семья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400" spc="-1" strike="sngStrike" u="sng">
                <a:solidFill>
                  <a:srgbClr val="babed6"/>
                </a:solidFill>
                <a:uFillTx/>
                <a:latin typeface="Arial"/>
              </a:rPr>
              <a:t>Правила работы в группе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411120" y="1968480"/>
            <a:ext cx="822960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4000" spc="-1" strike="sngStrike">
                <a:solidFill>
                  <a:srgbClr val="babed6"/>
                </a:solidFill>
                <a:latin typeface="Arial"/>
              </a:rPr>
              <a:t>Работать дружно, сообща.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4000" spc="-1" strike="sngStrike">
                <a:solidFill>
                  <a:srgbClr val="babed6"/>
                </a:solidFill>
                <a:latin typeface="Arial"/>
              </a:rPr>
              <a:t>Слышать друг друга.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4000" spc="-1" strike="sngStrike">
                <a:solidFill>
                  <a:srgbClr val="babed6"/>
                </a:solidFill>
                <a:latin typeface="Arial"/>
              </a:rPr>
              <a:t>Не перебивать друг друга.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4000" spc="-1" strike="sngStrike">
                <a:solidFill>
                  <a:srgbClr val="babed6"/>
                </a:solidFill>
                <a:latin typeface="Arial"/>
              </a:rPr>
              <a:t>Называй собеседника по имени.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277920" indent="-277920">
              <a:buClr>
                <a:srgbClr val="000000"/>
              </a:buClr>
              <a:buFont typeface="Times New Roman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</a:tabLst>
            </a:pPr>
            <a:r>
              <a:rPr b="0" lang="en-US" sz="4000" spc="-1" strike="sngStrike">
                <a:solidFill>
                  <a:srgbClr val="babed6"/>
                </a:solidFill>
                <a:latin typeface="Arial"/>
              </a:rPr>
              <a:t>Если не понял, переспроси.</a:t>
            </a:r>
            <a:endParaRPr b="1" i="1" lang="en-US" sz="4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60360" y="0"/>
            <a:ext cx="8783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8480" y="144000"/>
            <a:ext cx="81108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4400" spc="-1" strike="sngStrike" u="sng">
                <a:solidFill>
                  <a:srgbClr val="babed6"/>
                </a:solidFill>
                <a:uFillTx/>
                <a:latin typeface="Arial"/>
              </a:rPr>
              <a:t>Венцы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6000" y="863640"/>
            <a:ext cx="8928000" cy="59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9T21:02:57Z</dcterms:created>
  <dc:creator/>
  <dc:description/>
  <dc:language>en-US</dc:language>
  <cp:lastModifiedBy/>
  <dcterms:modified xsi:type="dcterms:W3CDTF">2021-11-21T05:57:09Z</dcterms:modified>
  <cp:revision>0</cp:revision>
  <dc:subject/>
  <dc:title>«Основы религиозных культур и светской этики» Модуль: «Осно</dc:title>
</cp:coreProperties>
</file>